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DED-3F62-416B-9927-077DC25EF9FA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270828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4 v7.0 exercis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859" t="48487" r="6618" b="3696"/>
          <a:stretch/>
        </p:blipFill>
        <p:spPr>
          <a:xfrm>
            <a:off x="395280" y="1268280"/>
            <a:ext cx="4896000" cy="5113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1560" y="602136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suit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6560" y="2239920"/>
            <a:ext cx="4105440" cy="30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640" y="3929040"/>
            <a:ext cx="3600360" cy="277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ant4 Hadronic Phys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585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inary cascade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cluded inclusion of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pion projectile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 light ion react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mproved transition to pre-equilibrium mod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ertini Cascade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: extended up to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0 GeV 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(thanks to A Heikinen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Scattering term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tended for nucleon induced reactions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8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cluded s-wave absorp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ion induced reactions (up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.5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ew packages and model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Abrasion/Ablation &amp; EM dissociation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r ions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Coherent elastic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model for high energy elastic scatter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ross section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moved discontinuities in pion scattering data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x in high energy p-H cross-sections (G3 legacy bug)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article ID after interaction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onal kill primaries – can be steered from user cod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6093000"/>
            <a:ext cx="35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lide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Apostolak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s-Peterr Weil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67652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K. Nakai at al., PRL 44, 1446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. Ashery et al, PR C23, 2173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276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/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819520"/>
            <a:ext cx="152280" cy="1904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2004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8862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4956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2860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952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14400" y="4190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90720" y="419076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81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 target (Al, Cu, 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4495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029200" y="44953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486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800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m monitoring cou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ion absorption – experiment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484960" y="289548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kai – look for gammas emitted after pion absor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hery – look for transmitted (not absorbed) 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495680"/>
            <a:ext cx="3198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am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ies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 – 315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1440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Witold Pokorski CERN-LCGAPP-2004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00840" y="6021360"/>
            <a:ext cx="556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LCG Review Alberto Ribon, CERN/PH/S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Absorption Xsection for π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05240" cy="2687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04920" y="3552840"/>
            <a:ext cx="42670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3809880"/>
            <a:ext cx="4267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ame remarks as for pi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r heavy material (Au) the shape of the QGSP_BERT quite 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4: best agreement for ‘medium-weight’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Hadronic interactions in ATLAS pixel test-bea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07200" cy="2998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75248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0 GeV/c nomin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b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120" y="4724280"/>
            <a:ext cx="8089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952880"/>
            <a:ext cx="7391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nt4 Geometry. Use the same Geometry also with Flu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LUG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face between the Transportatio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s of Fluka and Geant4 Navigation of the Geometr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99072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Alberto Ribon  CERN-LCGAPP-2004-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3520" y="475920"/>
            <a:ext cx="685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Ratio max Eloss / total Elos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8020080" cy="6510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467480" y="2133720"/>
            <a:ext cx="1675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6960" y="380880"/>
            <a:ext cx="6973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uster siz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7665840" cy="6224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8040" y="152280"/>
            <a:ext cx="20559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produ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narr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LH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QGSC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g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05320"/>
            <a:ext cx="2055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onclu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Geant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in 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dat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ble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im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92280" y="0"/>
            <a:ext cx="71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MS longitudinal shower profile in HCAL for 100 GeV p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53341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r my application??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a blind user, I have also tried QGSP_XYZ flavours included in the physics_lists/hadronic directory: the results are the same as QGSP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except QGSP_HP which seems not to be used for this use cas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 also tried QGSC but the results are worse.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What Nex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iscussion engaged with H.P Weillich as soon as he will get a stable position;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urrently, contact with M. Brooks and Walaron from RAL who are doing some tests using MARS and G4 in the context of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production in p(2GeV/c – 120GeV/c) + Tantalum target (see last BENE week)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Two students 6 weeks june/ju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24840" y="1821960"/>
            <a:ext cx="6671520" cy="3853800"/>
            <a:chOff x="924840" y="1821960"/>
            <a:chExt cx="6671520" cy="3853800"/>
          </a:xfrm>
        </p:grpSpPr>
        <p:grpSp>
          <p:nvGrpSpPr>
            <p:cNvPr id="90" name=""/>
            <p:cNvGrpSpPr/>
            <p:nvPr/>
          </p:nvGrpSpPr>
          <p:grpSpPr>
            <a:xfrm>
              <a:off x="924840" y="1821960"/>
              <a:ext cx="6671520" cy="3853800"/>
              <a:chOff x="924840" y="1821960"/>
              <a:chExt cx="6671520" cy="385380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rcRect l="4260" t="17657" r="1767" b="8688"/>
              <a:stretch/>
            </p:blipFill>
            <p:spPr>
              <a:xfrm>
                <a:off x="1187280" y="2205000"/>
                <a:ext cx="6337440" cy="3311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92" name=""/>
              <p:cNvSpPr/>
              <p:nvPr/>
            </p:nvSpPr>
            <p:spPr>
              <a:xfrm rot="20398200">
                <a:off x="4572360" y="4870080"/>
                <a:ext cx="24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60 m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651640" y="1821960"/>
                <a:ext cx="1944720" cy="1751400"/>
                <a:chOff x="5651640" y="1821960"/>
                <a:chExt cx="1944720" cy="1751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51640" y="2205000"/>
                  <a:ext cx="194472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73800">
                  <a:off x="5861880" y="2293560"/>
                  <a:ext cx="172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24840" y="4437000"/>
                <a:ext cx="983160" cy="398880"/>
                <a:chOff x="924840" y="4437000"/>
                <a:chExt cx="983160" cy="398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924840" y="443700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908000" y="45813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466640" y="1952640"/>
              <a:ext cx="1689480" cy="1044720"/>
              <a:chOff x="1466640" y="1952640"/>
              <a:chExt cx="1689480" cy="10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1466640" y="1952640"/>
                <a:ext cx="168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 (400GeV/c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11280" y="2494080"/>
                <a:ext cx="72072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4005360"/>
            <a:ext cx="396108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2924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ypica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2520" y="3500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0120" y="5589720"/>
            <a:ext cx="66286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1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979320" y="1952640"/>
            <a:ext cx="155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2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3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198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4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01T13:33:39Z</dcterms:modified>
  <cp:revision>21</cp:revision>
  <dc:subject/>
  <dc:title>pBe (400GeV/c)</dc:title>
</cp:coreProperties>
</file>